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426-71CB-4E4F-87DE-41528EB3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B0B-7CC3-430D-9789-51B3E4E6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0D9-9C7A-4CB9-8895-01EA2794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E68-0D15-4726-8C5B-DD1D49C5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CEB-3DAA-4762-BE29-B5129709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232-9E96-479B-B66D-080B935D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AD8-9368-4BF2-B2B4-2DE25DC9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E91-ADDD-46BE-BEE7-7A2376A0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159-E597-4174-B707-373E08F4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A18-0BA9-4290-9E6C-A7259211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C61-0CF9-4DC3-BB75-7B52EA45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923-9DA1-472D-9824-F743502C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A908-1A9C-4D1F-9A5F-F06A67818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iv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3765600"/>
          <a:ext cx="38098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65600"/>
                    <a:ext cx="38098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143000" y="1752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"/>
              </a:rPr>
              <a:t>Heart Sav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862360" y="2819520"/>
            <a:ext cx="3419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20574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0574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057400"/>
            <a:ext cx="3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057400"/>
            <a:ext cx="7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057400"/>
            <a:ext cx="3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30600" y="20574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500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380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416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20574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39400" y="20257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8672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19810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2200" y="1981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2560" y="1981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1981080"/>
            <a:ext cx="3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9810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81680" y="1981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440" y="20574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306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86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30800" y="20574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92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680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89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4032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8968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04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574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0574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22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2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0257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81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057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500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728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2057400"/>
            <a:ext cx="5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328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217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421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21520" y="20574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4:57:18Z</dcterms:created>
  <dc:creator>New User</dc:creator>
  <dc:description/>
  <dc:language>en-US</dc:language>
  <cp:lastModifiedBy>Rutherford County Schools</cp:lastModifiedBy>
  <dcterms:modified xsi:type="dcterms:W3CDTF">2007-04-21T15:50:50Z</dcterms:modified>
  <cp:revision>22</cp:revision>
  <dc:subject/>
  <dc:title>Rivet</dc:title>
</cp:coreProperties>
</file>